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72D-67FD-48D6-BACF-F11DC348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0513-0444-4FD0-BCF0-F4EAFC9C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5EA-97EC-467E-A243-0B69D9A1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E8C0-3FF1-444F-A55A-A5BA2FA1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C0C1-2C45-40DE-8461-9E6CD16C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DFB8-A6AF-4B43-A7DC-A3E0F08A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9ED6-4BF6-4930-A066-244DD191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41CC-08FD-4637-B627-B35AE613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479F-21D4-4976-9763-9ED41E65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B36F-ECCF-4CEC-85FD-9C99AC2A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29D1-E528-4E42-9B82-F940BDE0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78F-BF60-4951-8051-CB9D21C8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CB09-B47B-47CD-9B9F-6BADEC83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CE37-8B94-443E-A2DE-F7537ADB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1168-ABA6-4FA2-AE80-7421297F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7252-37B4-4ED8-B84B-5A4EF1EB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7DD8-FB7D-4ABB-8B90-1BF43D96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F94F8-7C18-4DDC-A03D-3C3E651B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B1469-6FA0-42E1-ADDB-DEB9EB2C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843FC-0370-440B-88E9-741CCD4B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694E-AC69-4915-AC78-2F3C4455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54D3F-BA07-49C9-9B88-1B689FEE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82A-53B4-424E-935A-46BEE658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21F09-EA5B-4A6F-8C45-43B84330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D7D94-80BF-435D-A196-03D28FE9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1770F-49D4-4425-916D-0513B0C8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51D93-F192-476E-8051-50DC7332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0D82D-BDBB-420C-8240-F66C7D0F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F7088-FC70-4AC6-99AA-338143F8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C4F56-4AC8-4194-9B74-5B692662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6C7B9-25C1-4250-9681-CF5ACD62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02A29-08B7-4E27-A720-32DA2A75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22E06-B2CC-4BCF-A790-4D9C4821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9DB-B526-44C9-B6BC-59425544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D7529-A738-431E-92D0-28E76C4E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5981F-FA44-4D8B-9FB1-1975CE12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2D510-1C6D-4561-AADF-86EBFC5C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E675D-B81A-488C-9CB0-AA40D653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BAEB5-0773-408B-9FD3-33F34028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8EF19-45F0-4CC5-AA5A-1CE45CFC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BA6F2-F2BB-4AE1-9927-2D678EF3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205F-6245-4E3C-B30A-EA1D89A7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A59BA-3F54-4378-BAE4-C7319853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0EBE9-3FD5-40A5-AB91-FBCCCE63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5EC-5370-47E2-9448-7F19A8D5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BA62F-870C-4E4D-86CB-7BD74A0D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F9B41-6897-4FCD-8613-E31E798C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032BC-D03F-4FA4-83C4-A5A6F06B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E920D-3F7E-4E21-AB57-BA0DF2DA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25135-B3FB-4EEA-9AC3-EEF20715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51C22-8D32-4C99-867D-D296A6BF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6FB58-3065-4CC4-B7EA-0EFEA3E1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34698-1D17-4675-A149-A080DCA5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94307-EF50-4519-B44F-53903002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2591D-BEE3-4992-8650-498956B3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FE60-0F47-4EFE-9B80-D1997B86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5906A-06DB-44C0-8F9F-5D01D9A3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6AC-E63E-445B-B86C-9BA49D18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C86-01BD-4FFE-9446-3DDA6D3B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DCC-1837-4ED3-BAFC-CFF17466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7FE5C-BD1D-488A-A78F-F3D9ACBC822F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D14ED-A2D2-425D-AED6-AB4F7AA2666D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F5D95-3CD8-4570-98C5-AE2564017810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F47EB-F083-4860-8333-B4C7E151F20B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E9670-0717-4475-B5EE-F2E0365A4700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gOSnedhJxs" TargetMode="External"/><Relationship Id="rId2" Type="http://schemas.openxmlformats.org/officeDocument/2006/relationships/hyperlink" Target="https://www.youtube.com/watch?v=lgOSnedhJxs" TargetMode="External"/><Relationship Id="rId3" Type="http://schemas.openxmlformats.org/officeDocument/2006/relationships/hyperlink" Target="https://www.youtube.com/watch?v=lgOSnedhJxs" TargetMode="External"/><Relationship Id="rId4" Type="http://schemas.openxmlformats.org/officeDocument/2006/relationships/hyperlink" Target="https://www.youtube.com/watch?v=lgOSnedhJxs" TargetMode="External"/><Relationship Id="rId5" Type="http://schemas.openxmlformats.org/officeDocument/2006/relationships/hyperlink" Target="https://www.youtube.com/watch?v=lgOSnedhJxs" TargetMode="External"/><Relationship Id="rId6" Type="http://schemas.openxmlformats.org/officeDocument/2006/relationships/hyperlink" Target="https://www.youtube.com/watch?v=lgOSnedhJxs" TargetMode="External"/><Relationship Id="rId7" Type="http://schemas.openxmlformats.org/officeDocument/2006/relationships/hyperlink" Target="https://www.youtube.com/watch?v=lgOSnedhJxs" TargetMode="External"/><Relationship Id="rId8" Type="http://schemas.openxmlformats.org/officeDocument/2006/relationships/hyperlink" Target="https://www.youtube.com/watch?v=lgOSnedhJxs" TargetMode="External"/><Relationship Id="rId9" Type="http://schemas.openxmlformats.org/officeDocument/2006/relationships/image" Target="../media/image2.png"/><Relationship Id="rId10" Type="http://schemas.openxmlformats.org/officeDocument/2006/relationships/image" Target="../media/image1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04920" y="2184480"/>
            <a:ext cx="826776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Τ</a:t>
            </a: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ΟΥ ΓΙΟΦΥΡΙΟΥ ΤΗ</a:t>
            </a: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Σ </a:t>
            </a: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ΑΡΤΑΣ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  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300" spc="-1" strike="noStrike" u="sng">
                <a:solidFill>
                  <a:srgbClr val="335b74"/>
                </a:solidFill>
                <a:uFillTx/>
                <a:latin typeface="Franklin Gothic Book"/>
              </a:rPr>
              <a:t>Δημιουργο</a:t>
            </a:r>
            <a:r>
              <a:rPr b="0" lang="el-GR" sz="2300" spc="-1" strike="noStrike" u="sng">
                <a:solidFill>
                  <a:srgbClr val="335b74"/>
                </a:solidFill>
                <a:uFillTx/>
                <a:latin typeface="Franklin Gothic Book"/>
              </a:rPr>
              <a:t>ί</a:t>
            </a: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: Ελένη Κασελούρη (Μουσικολόγος ΠΕ79.01)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                     </a:t>
            </a: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Μελίνα Κατίου (Θεατρολόγος ΠΕ91.01)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Εικόνα 5" descr=""/>
          <p:cNvPicPr/>
          <p:nvPr/>
        </p:nvPicPr>
        <p:blipFill>
          <a:blip r:embed="rId1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79" name="Εικόνα 3" descr=""/>
          <p:cNvPicPr/>
          <p:nvPr/>
        </p:nvPicPr>
        <p:blipFill>
          <a:blip r:embed="rId2"/>
          <a:stretch/>
        </p:blipFill>
        <p:spPr>
          <a:xfrm>
            <a:off x="9941040" y="2147760"/>
            <a:ext cx="1811160" cy="2737080"/>
          </a:xfrm>
          <a:prstGeom prst="rect">
            <a:avLst/>
          </a:prstGeom>
          <a:ln w="0">
            <a:noFill/>
          </a:ln>
        </p:spPr>
      </p:pic>
      <p:pic>
        <p:nvPicPr>
          <p:cNvPr id="280" name="Εικόνα 4" descr=""/>
          <p:cNvPicPr/>
          <p:nvPr/>
        </p:nvPicPr>
        <p:blipFill>
          <a:blip r:embed="rId3"/>
          <a:stretch/>
        </p:blipFill>
        <p:spPr>
          <a:xfrm>
            <a:off x="10090080" y="152280"/>
            <a:ext cx="1462320" cy="1462320"/>
          </a:xfrm>
          <a:prstGeom prst="rect">
            <a:avLst/>
          </a:prstGeom>
          <a:ln w="0">
            <a:noFill/>
          </a:ln>
        </p:spPr>
      </p:pic>
      <p:pic>
        <p:nvPicPr>
          <p:cNvPr id="281" name="Εικόνα 5" descr=""/>
          <p:cNvPicPr/>
          <p:nvPr/>
        </p:nvPicPr>
        <p:blipFill>
          <a:blip r:embed="rId4"/>
          <a:stretch/>
        </p:blipFill>
        <p:spPr>
          <a:xfrm>
            <a:off x="954000" y="1293840"/>
            <a:ext cx="7672320" cy="4976640"/>
          </a:xfrm>
          <a:prstGeom prst="rect">
            <a:avLst/>
          </a:prstGeom>
          <a:ln w="0">
            <a:noFill/>
          </a:ln>
        </p:spPr>
      </p:pic>
      <p:sp>
        <p:nvSpPr>
          <p:cNvPr id="282" name="Τίτλος 1"/>
          <p:cNvSpPr/>
          <p:nvPr/>
        </p:nvSpPr>
        <p:spPr>
          <a:xfrm>
            <a:off x="954000" y="0"/>
            <a:ext cx="767232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Το γεφύρι της Άρτα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όπως το ζωγράφισαν οι μαθητέ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579600"/>
            <a:ext cx="7562880" cy="54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335b74"/>
                </a:solidFill>
                <a:uFillTx/>
                <a:latin typeface="Franklin Gothic Book"/>
              </a:rPr>
              <a:t>Παιχνίδια με βάση το ποίημα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14320" y="4143240"/>
            <a:ext cx="9601200" cy="32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5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439200" y="492444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25" name="Ορθογώνιο 1"/>
          <p:cNvSpPr/>
          <p:nvPr/>
        </p:nvSpPr>
        <p:spPr>
          <a:xfrm>
            <a:off x="814320" y="1293840"/>
            <a:ext cx="7875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φήγηση από τον/την εκπαιδευτικ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υλάκι εδιάβη κι έκατσε αντίκρυ στο ποτάμ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εν εκελάηδε σαν πουλί, μηδέ σα χελιδόν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ρά εκελάηδε κι έλεγε, ανθρωπινή λαλίτσ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«Α δε στοιχειώσετε άνθρωπο, γιοφύρι δε στεριώνει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μη στοιχειώσετε ορφανό, μη ξένο, μη διαβάτ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ρά του πρωτομάστορα την όμορφη γυναίκα,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' άκουσ' ο πρωτομάστορας και του θανάτου πέφτε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ιάνει, μηνάει της λυγερής με το πουλί τ' αηδόν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ργά ντυθεί, αργά αλλαχτεί, αργά να πάει το γιόμ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ργά να πάει και να διαβεί της Άρτας το γιοφύρ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το πουλί παράκουσε κι αλλιώς επήγε κι είπ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«Γοργά ντύσου, γοργά άλλαξε, γοργά να πας το γιόμ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οργά να πας και να διαβείς της Άρτας το γιοφύρ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α τηνε κι εξανάφανεν* από την άσπρη στράτ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ην είδ' ο πρωτομάστορας, ραγίζεται η καρδιά το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20640" y="947880"/>
            <a:ext cx="7496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  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7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28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9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30" name="Ορθογώνιο 1"/>
          <p:cNvSpPr/>
          <p:nvPr/>
        </p:nvSpPr>
        <p:spPr>
          <a:xfrm>
            <a:off x="1411200" y="326880"/>
            <a:ext cx="7732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Ορθογώνιο 2"/>
          <p:cNvSpPr/>
          <p:nvPr/>
        </p:nvSpPr>
        <p:spPr>
          <a:xfrm>
            <a:off x="846000" y="3724200"/>
            <a:ext cx="857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Ανίχνευση σκέψη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Πρωτομάστορας «είπε» στα πουλιά να ζητήσουν από τη  γυναίκα του να αργήσει να ετοιμαστεί, ελπίζοντας ότι θα περάσει κάποια άλλη γυναίκα απ’ το γεφύρι πριν προφτάσει να έρθει η δική του. Ο/η εκπαιδευτικός ζητά από τα παιδιά να μιμηθούν την έκφραση του Πρωτομάστορα όταν λέει ψέματα στα πουλιά και την έκφρασή του όταν  τελικά είδε να έρχεται η γυναίκα του. Ποια από τις δυο εκφράσεις πονά και από ποια στοιχεία το καταλαβαίνουμε; Αν μιλούσε το δεύτερο πρόσωπο, τι θα έλεγ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Ορθογώνιο 4"/>
          <p:cNvSpPr/>
          <p:nvPr/>
        </p:nvSpPr>
        <p:spPr>
          <a:xfrm>
            <a:off x="846000" y="392040"/>
            <a:ext cx="857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Ρόλος στον τοίχο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 χαρτί του μέτρου ο/η εκπαιδευτικός ζωγραφίζει το περίγραμμα ενός άντρα και το τοποθετεί στον τοίχο. Αναφέρει στα παιδιά ότι αυτός είναι ο Πρωτομάστορας τη στιγμή που μαθαίνει ότι για να στεριώσει το γεφύρι θα πρέπει να θυσιαστεί η γυναίκα του. Όταν τη βλέπει να έρχεται, «ραγίζεται η καρδιά του». Οι μαθητές χρησιμοποιώντας μαρκαδόρους, γράφουν μέσα στο περίγραμμα του χαρτιού, τα συναισθήματα που μπορεί να ένιωσε ο Πρωτομάστορα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 Όση ώρα τα παιδιά γράφουν, ακούγεται το τραγούδι «Το γεφύρι της Άρτας» από τη Μαρία Σουλτάτο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97040" y="469440"/>
            <a:ext cx="868680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335b74"/>
                </a:solidFill>
                <a:uFillTx/>
                <a:latin typeface="Franklin Gothic Book"/>
                <a:ea typeface="Calibri"/>
              </a:rPr>
              <a:t>Κατασκευή μουσικού οργάνου </a:t>
            </a:r>
            <a:br>
              <a:rPr sz="4400"/>
            </a:br>
            <a:r>
              <a:rPr b="0" lang="el-GR" sz="4400" spc="-1" strike="noStrike">
                <a:solidFill>
                  <a:srgbClr val="335b74"/>
                </a:solidFill>
                <a:latin typeface="Franklin Gothic Book"/>
                <a:ea typeface="Calibri"/>
              </a:rPr>
              <a:t>(ράβδος βροχής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)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4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6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37" name="Ορθογώνιο 1"/>
          <p:cNvSpPr/>
          <p:nvPr/>
        </p:nvSpPr>
        <p:spPr>
          <a:xfrm>
            <a:off x="932040" y="1846440"/>
            <a:ext cx="8681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α χρειαστούμε: έναν κυλινδρικό χάρτινο σωλήνα στον οποίο θα έχουμε κάνει τρύπες σε ελικοειδή μορφή, καλαμάκια από σουβλάκι, ένα κοφτάκι, χαρτοταινία, διάφορα υλικά όπως κορδέλες, χρώματα, γκλίτερ κτλ , διαφόρων ειδών σπόρια, όσπρια και διάφορα άλλα μικρά αντικείμενα, ένα κομμάτι χαρτόνι για να φτιάξουμε τα καπάκια, κόλλ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1. Κάνουμε τρύπες στο χάρτινο σωλήνα σε ελικοειδή μορφ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Εικόνα 9" descr=""/>
          <p:cNvPicPr/>
          <p:nvPr/>
        </p:nvPicPr>
        <p:blipFill>
          <a:blip r:embed="rId4"/>
          <a:stretch/>
        </p:blipFill>
        <p:spPr>
          <a:xfrm>
            <a:off x="4795920" y="4303800"/>
            <a:ext cx="1974600" cy="2455920"/>
          </a:xfrm>
          <a:prstGeom prst="rect">
            <a:avLst/>
          </a:prstGeom>
          <a:ln w="0">
            <a:noFill/>
          </a:ln>
        </p:spPr>
      </p:pic>
      <p:pic>
        <p:nvPicPr>
          <p:cNvPr id="239" name="Εικόνα 10" descr=""/>
          <p:cNvPicPr/>
          <p:nvPr/>
        </p:nvPicPr>
        <p:blipFill>
          <a:blip r:embed="rId5"/>
          <a:stretch/>
        </p:blipFill>
        <p:spPr>
          <a:xfrm>
            <a:off x="2146320" y="4303800"/>
            <a:ext cx="18414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79520" y="57960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1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4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sp>
        <p:nvSpPr>
          <p:cNvPr id="244" name="Ορθογώνιο 2"/>
          <p:cNvSpPr/>
          <p:nvPr/>
        </p:nvSpPr>
        <p:spPr>
          <a:xfrm>
            <a:off x="1036800" y="146160"/>
            <a:ext cx="872172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2. Βάζουμε τα ξυλάκια στις τρύπες ώστε να δημιουργηθούν εμπόδια στο εσωτερικό του σωλήνα. Έτσι, όταν ρίξουμε μέσα τα σποράκια ,να βρίσκουν αντίσταση και να πέφτουν σταδιακά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Εικόνα 6" descr=""/>
          <p:cNvPicPr/>
          <p:nvPr/>
        </p:nvPicPr>
        <p:blipFill>
          <a:blip r:embed="rId4"/>
          <a:stretch/>
        </p:blipFill>
        <p:spPr>
          <a:xfrm>
            <a:off x="1036800" y="1308240"/>
            <a:ext cx="1841400" cy="2288880"/>
          </a:xfrm>
          <a:prstGeom prst="rect">
            <a:avLst/>
          </a:prstGeom>
          <a:ln w="0">
            <a:noFill/>
          </a:ln>
        </p:spPr>
      </p:pic>
      <p:pic>
        <p:nvPicPr>
          <p:cNvPr id="246" name="Εικόνα 7" descr=""/>
          <p:cNvPicPr/>
          <p:nvPr/>
        </p:nvPicPr>
        <p:blipFill>
          <a:blip r:embed="rId5"/>
          <a:stretch/>
        </p:blipFill>
        <p:spPr>
          <a:xfrm>
            <a:off x="3233880" y="1308240"/>
            <a:ext cx="1841400" cy="2288880"/>
          </a:xfrm>
          <a:prstGeom prst="rect">
            <a:avLst/>
          </a:prstGeom>
          <a:ln w="0">
            <a:noFill/>
          </a:ln>
        </p:spPr>
      </p:pic>
      <p:pic>
        <p:nvPicPr>
          <p:cNvPr id="247" name="Εικόνα 8" descr=""/>
          <p:cNvPicPr/>
          <p:nvPr/>
        </p:nvPicPr>
        <p:blipFill>
          <a:blip r:embed="rId6"/>
          <a:stretch/>
        </p:blipFill>
        <p:spPr>
          <a:xfrm>
            <a:off x="5381640" y="1343160"/>
            <a:ext cx="1841400" cy="2253960"/>
          </a:xfrm>
          <a:prstGeom prst="rect">
            <a:avLst/>
          </a:prstGeom>
          <a:ln w="0">
            <a:noFill/>
          </a:ln>
        </p:spPr>
      </p:pic>
      <p:pic>
        <p:nvPicPr>
          <p:cNvPr id="248" name="Εικόνα 9" descr=""/>
          <p:cNvPicPr/>
          <p:nvPr/>
        </p:nvPicPr>
        <p:blipFill>
          <a:blip r:embed="rId7"/>
          <a:stretch/>
        </p:blipFill>
        <p:spPr>
          <a:xfrm>
            <a:off x="7547040" y="1343160"/>
            <a:ext cx="1843200" cy="2253960"/>
          </a:xfrm>
          <a:prstGeom prst="rect">
            <a:avLst/>
          </a:prstGeom>
          <a:ln w="0">
            <a:noFill/>
          </a:ln>
        </p:spPr>
      </p:pic>
      <p:sp>
        <p:nvSpPr>
          <p:cNvPr id="249" name="Ορθογώνιο 3"/>
          <p:cNvSpPr/>
          <p:nvPr/>
        </p:nvSpPr>
        <p:spPr>
          <a:xfrm>
            <a:off x="966960" y="3710160"/>
            <a:ext cx="90658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3. Κόβουμε το μέρος από το ξυλάκι που περισσεύει και στη συνέχεια βάζουμε χαρτοταινία για να μην κουνιούνται τα ξυλάκια από τη θέση τους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Εικόνα 11" descr=""/>
          <p:cNvPicPr/>
          <p:nvPr/>
        </p:nvPicPr>
        <p:blipFill>
          <a:blip r:embed="rId8"/>
          <a:stretch/>
        </p:blipFill>
        <p:spPr>
          <a:xfrm>
            <a:off x="1633680" y="4481640"/>
            <a:ext cx="1841400" cy="2419200"/>
          </a:xfrm>
          <a:prstGeom prst="rect">
            <a:avLst/>
          </a:prstGeom>
          <a:ln w="0">
            <a:noFill/>
          </a:ln>
        </p:spPr>
      </p:pic>
      <p:pic>
        <p:nvPicPr>
          <p:cNvPr id="251" name="Εικόνα 12" descr=""/>
          <p:cNvPicPr/>
          <p:nvPr/>
        </p:nvPicPr>
        <p:blipFill>
          <a:blip r:embed="rId9"/>
          <a:stretch/>
        </p:blipFill>
        <p:spPr>
          <a:xfrm>
            <a:off x="4095720" y="4481640"/>
            <a:ext cx="1841400" cy="236988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13" descr=""/>
          <p:cNvPicPr/>
          <p:nvPr/>
        </p:nvPicPr>
        <p:blipFill>
          <a:blip r:embed="rId10"/>
          <a:stretch/>
        </p:blipFill>
        <p:spPr>
          <a:xfrm>
            <a:off x="6558120" y="4470480"/>
            <a:ext cx="178884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796680" y="2700360"/>
            <a:ext cx="113950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5. Ρίχνουμε στο εσωτερικό του σωλήνα όσπρια, σπόρια κ.α. και πειραματιζόμαστε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ε τον ήχο. Βάζουμε υλικά που έχουν διαφορετικό μέγεθος ώστε να κυλάνε πιο αργά και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να έχουμε διάρκεια στον ήχο. Φτιάχνουμε χάρτινα καπάκια για να κλείσουμε τα δύο 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νοίγματα.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4" name="Εικόνα 3" descr=""/>
          <p:cNvPicPr/>
          <p:nvPr/>
        </p:nvPicPr>
        <p:blipFill>
          <a:blip r:embed="rId1"/>
          <a:stretch/>
        </p:blipFill>
        <p:spPr>
          <a:xfrm>
            <a:off x="10063080" y="195588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55" name="Εικόνα 4" descr=""/>
          <p:cNvPicPr/>
          <p:nvPr/>
        </p:nvPicPr>
        <p:blipFill>
          <a:blip r:embed="rId2"/>
          <a:stretch/>
        </p:blipFill>
        <p:spPr>
          <a:xfrm>
            <a:off x="10063080" y="458640"/>
            <a:ext cx="1462320" cy="1244880"/>
          </a:xfrm>
          <a:prstGeom prst="rect">
            <a:avLst/>
          </a:prstGeom>
          <a:ln w="0">
            <a:noFill/>
          </a:ln>
        </p:spPr>
      </p:pic>
      <p:pic>
        <p:nvPicPr>
          <p:cNvPr id="256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57" name="Θέση περιεχομένου 2"/>
          <p:cNvSpPr/>
          <p:nvPr/>
        </p:nvSpPr>
        <p:spPr>
          <a:xfrm flipV="1">
            <a:off x="666720" y="6857280"/>
            <a:ext cx="9047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Ορθογώνιο 2"/>
          <p:cNvSpPr/>
          <p:nvPr/>
        </p:nvSpPr>
        <p:spPr>
          <a:xfrm>
            <a:off x="992160" y="11736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4. Στολίζουμε εξωτερικά τη ράβδο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Εικόνα 9" descr=""/>
          <p:cNvPicPr/>
          <p:nvPr/>
        </p:nvPicPr>
        <p:blipFill>
          <a:blip r:embed="rId4"/>
          <a:stretch/>
        </p:blipFill>
        <p:spPr>
          <a:xfrm>
            <a:off x="992160" y="577800"/>
            <a:ext cx="1892160" cy="2060640"/>
          </a:xfrm>
          <a:prstGeom prst="rect">
            <a:avLst/>
          </a:prstGeom>
          <a:ln w="0">
            <a:noFill/>
          </a:ln>
        </p:spPr>
      </p:pic>
      <p:pic>
        <p:nvPicPr>
          <p:cNvPr id="260" name="Εικόνα 10" descr=""/>
          <p:cNvPicPr/>
          <p:nvPr/>
        </p:nvPicPr>
        <p:blipFill>
          <a:blip r:embed="rId5"/>
          <a:stretch/>
        </p:blipFill>
        <p:spPr>
          <a:xfrm>
            <a:off x="3519360" y="577800"/>
            <a:ext cx="1743120" cy="2030400"/>
          </a:xfrm>
          <a:prstGeom prst="rect">
            <a:avLst/>
          </a:prstGeom>
          <a:ln w="0">
            <a:noFill/>
          </a:ln>
        </p:spPr>
      </p:pic>
      <p:pic>
        <p:nvPicPr>
          <p:cNvPr id="261" name="Εικόνα 11" descr=""/>
          <p:cNvPicPr/>
          <p:nvPr/>
        </p:nvPicPr>
        <p:blipFill>
          <a:blip r:embed="rId6"/>
          <a:stretch/>
        </p:blipFill>
        <p:spPr>
          <a:xfrm>
            <a:off x="5897520" y="577800"/>
            <a:ext cx="1801800" cy="2060640"/>
          </a:xfrm>
          <a:prstGeom prst="rect">
            <a:avLst/>
          </a:prstGeom>
          <a:ln w="0">
            <a:noFill/>
          </a:ln>
        </p:spPr>
      </p:pic>
      <p:pic>
        <p:nvPicPr>
          <p:cNvPr id="262" name="Εικόνα 12" descr=""/>
          <p:cNvPicPr/>
          <p:nvPr/>
        </p:nvPicPr>
        <p:blipFill>
          <a:blip r:embed="rId7"/>
          <a:stretch/>
        </p:blipFill>
        <p:spPr>
          <a:xfrm>
            <a:off x="3432240" y="4078440"/>
            <a:ext cx="18637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717480"/>
            <a:ext cx="96426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5b74"/>
                </a:solidFill>
                <a:uFillTx/>
                <a:latin typeface="Franklin Gothic Book"/>
              </a:rPr>
              <a:t>Que llueva</a:t>
            </a:r>
            <a:r>
              <a:rPr b="0" lang="el-GR" sz="4400" spc="-1" strike="noStrike" u="sng">
                <a:solidFill>
                  <a:srgbClr val="335b74"/>
                </a:solidFill>
                <a:uFillTx/>
                <a:latin typeface="Franklin Gothic Book"/>
              </a:rPr>
              <a:t> 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(τραγούδι από το </a:t>
            </a:r>
            <a:br>
              <a:rPr sz="4400"/>
            </a:b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Μεξικό, αφιερωμένο στη βροχή)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4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65" name="Εικόνα 4" descr=""/>
          <p:cNvPicPr/>
          <p:nvPr/>
        </p:nvPicPr>
        <p:blipFill>
          <a:blip r:embed="rId2"/>
          <a:stretch/>
        </p:blipFill>
        <p:spPr>
          <a:xfrm>
            <a:off x="10063080" y="5778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66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  <p:pic>
        <p:nvPicPr>
          <p:cNvPr id="267" name="Θέση περιεχομένου 6" descr=""/>
          <p:cNvPicPr/>
          <p:nvPr/>
        </p:nvPicPr>
        <p:blipFill>
          <a:blip r:embed="rId4"/>
          <a:stretch/>
        </p:blipFill>
        <p:spPr>
          <a:xfrm>
            <a:off x="1763640" y="2376360"/>
            <a:ext cx="698832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449280"/>
            <a:ext cx="8761320" cy="7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9000"/>
              </a:lnSpc>
              <a:buClr>
                <a:srgbClr val="335b7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335b74"/>
                </a:solidFill>
                <a:uFillTx/>
                <a:latin typeface="Franklin Gothic Book"/>
              </a:rPr>
              <a:t>Ο θρύλος του γεφυριού της Άρτας- </a:t>
            </a:r>
            <a:r>
              <a:rPr b="1" lang="el-GR" sz="2400" spc="-1" strike="noStrike">
                <a:solidFill>
                  <a:srgbClr val="335b74"/>
                </a:solidFill>
                <a:latin typeface="Franklin Gothic Book"/>
              </a:rPr>
              <a:t>βίντεο </a:t>
            </a:r>
            <a:r>
              <a:rPr b="1" lang="en-US" sz="2400" spc="-1" strike="noStrike">
                <a:solidFill>
                  <a:srgbClr val="335b74"/>
                </a:solidFill>
                <a:latin typeface="Franklin Gothic Book"/>
              </a:rPr>
              <a:t>animation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52200" y="448920"/>
            <a:ext cx="9110520" cy="63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1"/>
              </a:rPr>
              <a:t>https</a:t>
            </a:r>
            <a:r>
              <a:rPr b="0" lang="el-GR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2"/>
              </a:rPr>
              <a:t>://</a:t>
            </a:r>
            <a:r>
              <a:rPr b="0" lang="en-US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3"/>
              </a:rPr>
              <a:t>www</a:t>
            </a:r>
            <a:r>
              <a:rPr b="0" lang="el-GR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5"/>
              </a:rPr>
              <a:t>youtube</a:t>
            </a:r>
            <a:r>
              <a:rPr b="0" lang="el-GR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7"/>
              </a:rPr>
              <a:t>com</a:t>
            </a:r>
            <a:r>
              <a:rPr b="0" lang="el-GR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8"/>
              </a:rPr>
              <a:t>/</a:t>
            </a:r>
            <a:r>
              <a:rPr b="1" lang="en-US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watch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?</a:t>
            </a:r>
            <a:r>
              <a:rPr b="1" lang="en-US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v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=</a:t>
            </a:r>
            <a:r>
              <a:rPr b="1" lang="en-US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lgOSnedhJxs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335b74"/>
                </a:solidFill>
                <a:uFillTx/>
                <a:latin typeface="Franklin Gothic Book"/>
              </a:rPr>
              <a:t>Θέατρο μπροστά σ’ ένα μικρόφωνο 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Ο παρακάτω σύνδεσμος σας δίνει τη δυνατότητα να ακούσετε συμμετοχές μαθητών στον ραδιοφωνικό διαγωνισμ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YOUTH THEATRE ON AIR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. Στον διαγωνισμό αυτό συμμετείχε  και το έργο «Του γιοφυριού της ‘Άρτας», στην 4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 Διεθνή Συνάντηση/ Φεστιβάλ, με το οποίο διακριθήκαμε και αποσπάσαμε τον τίτλ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«Έπαινος μουσικής υπόκρουσης ραδιοφωνικού θεάτρου».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Franklin Gothic Book"/>
                <a:ea typeface="Calibri"/>
              </a:rPr>
              <a:t>https://www.dramacenter.gr/copy-of-theatro-mprosta-apo-ena-mik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70" name="Εικόνα 3" descr=""/>
          <p:cNvPicPr/>
          <p:nvPr/>
        </p:nvPicPr>
        <p:blipFill>
          <a:blip r:embed="rId9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71" name="Εικόνα 4" descr=""/>
          <p:cNvPicPr/>
          <p:nvPr/>
        </p:nvPicPr>
        <p:blipFill>
          <a:blip r:embed="rId10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72" name="Εικόνα 5" descr=""/>
          <p:cNvPicPr/>
          <p:nvPr/>
        </p:nvPicPr>
        <p:blipFill>
          <a:blip r:embed="rId11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601200" cy="7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Έπαινος μουσικής υπόκρουση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74" name="Εικόνα 4" descr=""/>
          <p:cNvPicPr/>
          <p:nvPr/>
        </p:nvPicPr>
        <p:blipFill>
          <a:blip r:embed="rId1"/>
          <a:stretch/>
        </p:blipFill>
        <p:spPr>
          <a:xfrm>
            <a:off x="10090080" y="152280"/>
            <a:ext cx="1462320" cy="1462320"/>
          </a:xfrm>
          <a:prstGeom prst="rect">
            <a:avLst/>
          </a:prstGeom>
          <a:ln w="0">
            <a:noFill/>
          </a:ln>
        </p:spPr>
      </p:pic>
      <p:pic>
        <p:nvPicPr>
          <p:cNvPr id="275" name="Εικόνα 3" descr=""/>
          <p:cNvPicPr/>
          <p:nvPr/>
        </p:nvPicPr>
        <p:blipFill>
          <a:blip r:embed="rId2"/>
          <a:stretch/>
        </p:blipFill>
        <p:spPr>
          <a:xfrm>
            <a:off x="9941040" y="2147760"/>
            <a:ext cx="1811160" cy="2737080"/>
          </a:xfrm>
          <a:prstGeom prst="rect">
            <a:avLst/>
          </a:prstGeom>
          <a:ln w="0">
            <a:noFill/>
          </a:ln>
        </p:spPr>
      </p:pic>
      <p:pic>
        <p:nvPicPr>
          <p:cNvPr id="276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96280" y="51721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77" name="Εικόνα 6" descr=""/>
          <p:cNvPicPr/>
          <p:nvPr/>
        </p:nvPicPr>
        <p:blipFill>
          <a:blip r:embed="rId4"/>
          <a:stretch/>
        </p:blipFill>
        <p:spPr>
          <a:xfrm>
            <a:off x="1467000" y="1587600"/>
            <a:ext cx="69404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7:25:28Z</dcterms:modified>
  <cp:revision>208</cp:revision>
  <dc:subject/>
  <dc:title>Παρουσίαση του PowerPoint</dc:title>
</cp:coreProperties>
</file>